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776DC-DF6C-46C4-8F45-CA1590ACA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A8FDD-DDFA-4AF1-88A0-786A5DDA5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57600-6403-4879-A6E7-E666762BB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767E9-6C72-4AEB-B36B-2A9AD42A0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4ED1E-68C6-4085-9F68-44A92DD2A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6DE8D-41C6-4E54-8C1B-A016141B7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AEFE9-0B30-492D-A7EC-6D1108342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EA8A4-A57E-45C6-93E3-2D760D0D6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6C535-2011-46DA-89BB-51A198D9C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C8A2D-A1AD-4EE2-BC2B-9D696A300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B2A2C-29C0-46B3-A35C-27AA14676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7528-5837-43AA-B11B-E6BB01914F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D17A-D292-4D78-9BF4-0B881EAA3D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0512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162160" y="3105000"/>
            <a:ext cx="4819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esiunea iunie-iuli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7"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8"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50"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7</cp:lastModifiedBy>
  <dcterms:modified xsi:type="dcterms:W3CDTF">2012-06-18T11:14:35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